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D8D8-E2F8-40D1-91C9-4CF4E6C2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ACDA-8B84-4BE5-849F-93676A99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5DD2-931F-4B59-B6FB-11414D51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D6F1-4686-4652-83BA-0DF468A2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D1D-2E14-482B-A5DD-6EA519EE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7092-512F-4844-9E45-F28B9ABB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79C1-BE7E-415E-AD59-044F18A7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74FA-7A4B-481C-9983-710D82CF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A83-832D-47CE-8763-E5878753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D35-6981-48AF-B3B2-4D258AA8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7B08-DD6F-492F-BD40-0F517431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E0F1-F19B-4CD3-9612-7EF3C586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AF79-4F04-4C6D-9B90-9FAB6D073A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dorobr.org/" TargetMode="External"/><Relationship Id="rId2" Type="http://schemas.openxmlformats.org/officeDocument/2006/relationships/hyperlink" Target="mailto:zdorovie.2014@yandex.ru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www.iro.perm.ru/uchitel_zdorovia_rossii_2015.html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iro.perm.ru/catalog.html?cid=9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zdip@list.r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720" y="620640"/>
            <a:ext cx="6875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раевой этап 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X </a:t>
            </a: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Всероссийского конкурса </a:t>
            </a:r>
            <a:br>
              <a:rPr sz="3600"/>
            </a:b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«Учитель здоровья России - 2019»: условия участия, требования, критер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7560" y="445752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Лядова Наталья Владимировна</a:t>
            </a: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ответственная за проведение краевого конкур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ведущий научный сотрудник отдела сопровождения ФГОС ИРО ПК, кандидат медицинских наук, доц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6480" y="28584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оощрение победителя и лауреатов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073160"/>
            <a:ext cx="91440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, призеры и лауреаты Конкурса поощряются денежными вознагражд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участники 1-го заочного тура Конкурса награждаются дипломам участников, победитель, призеры и лауреаты (участники 2 тура) – дипло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 Конкурса будет направлен для очного участия во всероссийском (финальном) этапе X Всероссийского конкурса «Учитель здоровья России – 2019», который будет проводиться 27-29 ноября 2019 года в городе Челябинс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ем документов побед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 ноября. Сай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dorobr.or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рес Оргкомитет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zdorovie.2014@yandex.r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8028000" y="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пехов участникам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 конкурсе на сайте ИРО П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483920"/>
            <a:ext cx="903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роприятия/«Учитель здоровья России»/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ro.perm.ru/uchitel_zdorovia_rossii_2015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ro.perm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logo2"/>
          <p:cNvPicPr/>
          <p:nvPr/>
        </p:nvPicPr>
        <p:blipFill>
          <a:blip r:embed="rId10"/>
          <a:stretch/>
        </p:blipFill>
        <p:spPr>
          <a:xfrm>
            <a:off x="539640" y="333360"/>
            <a:ext cx="1828800" cy="112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11"/>
          <a:stretch/>
        </p:blipFill>
        <p:spPr>
          <a:xfrm>
            <a:off x="7667640" y="18900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 участию в Конкурсе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приглашаю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ителя и педагоги общеобразовательных организац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подаватели среднего профессионального образования Пермского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Цели Конкур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лучших учителей, осуществляющих обучение на уроках, занятиях на основе использования современных здоровьесберегающих образовательных технологий, и определение кандидата для участия в финальном этапе X Всероссийского конкурса «Учитель здоровья России – 2019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и Конкур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проблемы формирования культуры здоровья в системе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инновационных подходов педагогов к формированию культуры здорового и безопасного образа жизни у обучающихся, воспитанников, использования педагогами здоровьесберегающих образовательных технологий, методик в процессе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уры конкурса и конкурсны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-й – заочный 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курсное мероприятие: «Технологическая карта или Конспект урока или занятия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2-й – очный ту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нкурсные мероприят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Фрагмент урока или внеклассного занятия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Самоанализ мероприя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Творческая презентация педагогического опыта «Я – учитель здоров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Сроки 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ры Конкур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1-й – заочный – с 20 мая по 9 сентября 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проведения - ГАУ ДПО «ИРО ПК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2) 2-й – очный – 25-26 сентября 201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его проведения будет размещено на сайте ГАУ ДПО «ИРО ПК» http://iro.perm.ru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ой эмблем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урса 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является развернут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нига с дубовым лист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Использование официальной эмблемы Конкурса обязательно на краевом этапе X Всероссийского конк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840" y="274680"/>
            <a:ext cx="8580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Условия участия. </a:t>
            </a:r>
            <a:br>
              <a:rPr sz="3200"/>
            </a:b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еречень направляем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200" y="1248840"/>
            <a:ext cx="888552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ление участника Конкурса по образцу (Приложение 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ка на урок или  внеклассное занятие (Приложение 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ение заявителя (скан) о Конкурсанте (официальное письмо органа управления образованием муниципального района, городского округа с подписью начальника и печатью) (Приложение 3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онная карта участника Конкур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в формате Wo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скан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Приложение 4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ологическая карта (план-конспект урока) или внеклассного занятия в электронном виде (Приложение 5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формате Wor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Приложение 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ая фотография участника (портре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в срок до 9 сентября 2019 года включительно направляют комплект конкурсных документов в Оргкомитет Лядово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Наталье Владимировне по электронной почте на адрес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zdip@list.ru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967520" y="0"/>
            <a:ext cx="11764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ритерии оценки конкурсных материалов </a:t>
            </a:r>
            <a:br>
              <a:rPr sz="2800"/>
            </a:b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заочного тур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заочном туре жюри оценив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ческую карту/Конспект урока или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746360"/>
          <a:ext cx="8785440" cy="5111640"/>
        </p:xfrm>
        <a:graphic>
          <a:graphicData uri="http://schemas.openxmlformats.org/drawingml/2006/table">
            <a:tbl>
              <a:tblPr/>
              <a:tblGrid>
                <a:gridCol w="360360"/>
                <a:gridCol w="6337440"/>
                <a:gridCol w="208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. количество баллов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ое оформление технологической карты/плана-консп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соответствует теме, включает воспитательный компонент по формированию культуры ЗОЖ, здоровьесберегающи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используемых приемов, форм достижения и оценивания результа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ная 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8034480" y="189000"/>
            <a:ext cx="1109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Очный т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074600"/>
            <a:ext cx="85345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2-й очный тур выходя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ять участни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бравших в 1-м туре наибольшее количество балл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339933"/>
                </a:solidFill>
                <a:latin typeface="Calibri"/>
              </a:rPr>
              <a:t>Конкурсные мероприятия очного 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гмент урока или внеклассного занятия с детьми – регламент 25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анализ мероприятия – регламент 5 м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ая презентация педагогического опыта участника Конкурса «Я – учитель здоровья» – регламент 7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3T09:47:00Z</dcterms:created>
  <dc:creator>Ljadova-NV</dc:creator>
  <dc:description/>
  <dc:language>en-US</dc:language>
  <cp:lastModifiedBy>Ljadova-NV</cp:lastModifiedBy>
  <dcterms:modified xsi:type="dcterms:W3CDTF">2019-05-14T09:24:35Z</dcterms:modified>
  <cp:revision>12</cp:revision>
  <dc:subject/>
  <dc:title>Краевой этап  II Всероссийского конкурса  «Школа – территория здоровья - 2018»: условия участия, требования, критер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35</vt:lpwstr>
  </property>
  <property fmtid="{D5CDD505-2E9C-101B-9397-08002B2CF9AE}" pid="3" name="Version">
    <vt:r8>4</vt:r8>
  </property>
</Properties>
</file>